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43BB-2743-4EFE-B6AB-55953C40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0C29-EFAF-4360-BC45-A77796752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90680" y="62388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1338-EB56-4933-915C-2F8047993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50440" y="5333760"/>
            <a:ext cx="5792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5D7C-4AB5-4546-B7FC-140338DD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8D43-867C-4E0B-AF87-4CDB19697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5B47-B273-493F-BE79-F35AAEB3C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0A8-FFEC-4131-A11F-36ACA57A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50440" y="5334120"/>
            <a:ext cx="579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FTF goal and objectives and indicators for illustration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18BB-C978-4EFF-ACFE-FD171E7BF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5306-DAEE-40EB-AF35-CB3D4B1B3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B03A-0F81-46F2-9263-049F6897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60BA-6DB5-4778-88FF-D25FC6113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50800" y="5333760"/>
            <a:ext cx="579456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7A5E-960E-40A3-A304-5ABCEB421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FC5B-3B51-4BDF-BF67-401727EB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CA17-4442-4A53-8D65-096399E3B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5F41-6D7C-4F89-8874-04E149BF3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F74F-0528-4002-B573-8F1D098FD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CE75-A326-472F-B55A-2210FC9BA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883A-17B9-4C69-A8B0-E5056AC00D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349C-444B-44B5-8A15-5851943CE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4867-7C02-4FB7-B179-B69415396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C8DD-8030-4619-9AC0-98DBFF24E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C521-9B8C-4684-A2E0-E0059F452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228240"/>
            <a:ext cx="6400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B48A-AD95-4185-A18B-A533C1DEE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46F3-DB49-40B5-8DF8-3F112F26A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96F2-863D-4CFE-B26F-827A9CE43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30DD-9565-4879-9355-F287CF360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B34E-E09A-49B6-A2B2-820BFA7A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914400"/>
            <a:ext cx="9144000" cy="2700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88920" y="165240"/>
            <a:ext cx="2286000" cy="64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8600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2240" y="2247840"/>
            <a:ext cx="62895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USAID Ethiopia Feed the Future Strategy Overview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Sustainable Intensification Workshop, ILRI Ethiop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Cullen Hug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BottomPlaceholder"/>
          <p:cNvSpPr/>
          <p:nvPr/>
        </p:nvSpPr>
        <p:spPr>
          <a:xfrm>
            <a:off x="0" y="3081240"/>
            <a:ext cx="2238480" cy="3778200"/>
          </a:xfrm>
          <a:prstGeom prst="rect">
            <a:avLst/>
          </a:prstGeom>
          <a:solidFill>
            <a:srgbClr val="006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TopPlaceholder"/>
          <p:cNvSpPr/>
          <p:nvPr/>
        </p:nvSpPr>
        <p:spPr>
          <a:xfrm>
            <a:off x="0" y="936720"/>
            <a:ext cx="2238480" cy="2166840"/>
          </a:xfrm>
          <a:prstGeom prst="rect">
            <a:avLst/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cK Document type"/>
          <p:cNvSpPr/>
          <p:nvPr/>
        </p:nvSpPr>
        <p:spPr>
          <a:xfrm>
            <a:off x="2736720" y="5832000"/>
            <a:ext cx="63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0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Lockup_ETHIOPIA_RGB_LO"/>
          <p:cNvPicPr/>
          <p:nvPr/>
        </p:nvPicPr>
        <p:blipFill>
          <a:blip r:embed="rId1"/>
          <a:stretch/>
        </p:blipFill>
        <p:spPr>
          <a:xfrm>
            <a:off x="2373480" y="936720"/>
            <a:ext cx="6005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00B-0444-4731-BE20-3738FA160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1045800"/>
            <a:ext cx="63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TF nutrition investment – ENGIN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81280" y="1596960"/>
            <a:ext cx="712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impact a key criteria in prioritizing value chains and PPP with PepsiCO (1,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education/behavior change programs (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782720" y="2725560"/>
            <a:ext cx="6989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increasing incomes of vulnerable populations, particularly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wasting and micronutrient 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PSNP activities with those of the National Nutrition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852560" y="2630520"/>
            <a:ext cx="633744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1751040" y="1403280"/>
            <a:ext cx="671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4680" y="228240"/>
            <a:ext cx="4307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Nu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131760" y="1300320"/>
            <a:ext cx="1469880" cy="1199520"/>
            <a:chOff x="131760" y="1300320"/>
            <a:chExt cx="1469880" cy="1199520"/>
          </a:xfrm>
        </p:grpSpPr>
        <p:sp>
          <p:nvSpPr>
            <p:cNvPr id="171" name="Rectangle 22"/>
            <p:cNvSpPr/>
            <p:nvPr/>
          </p:nvSpPr>
          <p:spPr>
            <a:xfrm>
              <a:off x="131760" y="139032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 flipH="1">
              <a:off x="140400" y="130032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140760" y="3083040"/>
            <a:ext cx="1476720" cy="1109520"/>
            <a:chOff x="140760" y="3083040"/>
            <a:chExt cx="1476720" cy="1109520"/>
          </a:xfrm>
        </p:grpSpPr>
        <p:sp>
          <p:nvSpPr>
            <p:cNvPr id="174" name="Rectangle 26"/>
            <p:cNvSpPr/>
            <p:nvPr/>
          </p:nvSpPr>
          <p:spPr>
            <a:xfrm>
              <a:off x="147600" y="308304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ing the Vulner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 flipH="1">
              <a:off x="140400" y="308304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47600" y="4508640"/>
            <a:ext cx="8775720" cy="2674800"/>
            <a:chOff x="147600" y="4508640"/>
            <a:chExt cx="8775720" cy="2674800"/>
          </a:xfrm>
        </p:grpSpPr>
        <p:sp>
          <p:nvSpPr>
            <p:cNvPr id="177" name="Text Box 33"/>
            <p:cNvSpPr/>
            <p:nvPr/>
          </p:nvSpPr>
          <p:spPr>
            <a:xfrm>
              <a:off x="1692360" y="4517640"/>
              <a:ext cx="723096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t nutrition assessments to improve nutrition impact, analyses to understand impact and cost-effectiveness of various value chain interventions on child malnutr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ngthening capacity of nutrition practitioner/policy ma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6"/>
            <p:cNvGrpSpPr/>
            <p:nvPr/>
          </p:nvGrpSpPr>
          <p:grpSpPr>
            <a:xfrm>
              <a:off x="147600" y="4508640"/>
              <a:ext cx="8078760" cy="1473480"/>
              <a:chOff x="147600" y="4508640"/>
              <a:chExt cx="8078760" cy="1473480"/>
            </a:xfrm>
          </p:grpSpPr>
          <p:grpSp>
            <p:nvGrpSpPr>
              <p:cNvPr id="179" name="Group 29"/>
              <p:cNvGrpSpPr/>
              <p:nvPr/>
            </p:nvGrpSpPr>
            <p:grpSpPr>
              <a:xfrm>
                <a:off x="147600" y="4768560"/>
                <a:ext cx="1469880" cy="1213560"/>
                <a:chOff x="147600" y="4768560"/>
                <a:chExt cx="1469880" cy="1213560"/>
              </a:xfrm>
            </p:grpSpPr>
            <p:sp>
              <p:nvSpPr>
                <p:cNvPr id="180" name="Rectangle 30"/>
                <p:cNvSpPr/>
                <p:nvPr/>
              </p:nvSpPr>
              <p:spPr>
                <a:xfrm>
                  <a:off x="147600" y="4872960"/>
                  <a:ext cx="1469880" cy="1109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7160" rIns="46800" tIns="46800" bIns="46800" anchor="ctr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olicy and Capacity Enab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32"/>
                <p:cNvSpPr/>
                <p:nvPr/>
              </p:nvSpPr>
              <p:spPr>
                <a:xfrm flipH="1">
                  <a:off x="170640" y="4768560"/>
                  <a:ext cx="312840" cy="290160"/>
                </a:xfrm>
                <a:prstGeom prst="ellipse">
                  <a:avLst/>
                </a:prstGeom>
                <a:solidFill>
                  <a:srgbClr val="333399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34"/>
              <p:cNvSpPr/>
              <p:nvPr/>
            </p:nvSpPr>
            <p:spPr>
              <a:xfrm>
                <a:off x="1889280" y="4508640"/>
                <a:ext cx="633708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B0E1-FB07-492D-99FA-55E83A0A4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560160" y="472932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1236960" y="1146240"/>
            <a:ext cx="60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“Push” and who is “Pull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684440"/>
            <a:ext cx="949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3BE-A167-4562-9CB6-978DCD6D3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34080" y="628956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057320" y="1060560"/>
            <a:ext cx="73515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69D5-AEF2-4627-9AB2-840D3D26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798480" y="1455840"/>
            <a:ext cx="8278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85A5-57E8-4CD8-8DB9-B1AAB5B24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57320" y="1136520"/>
            <a:ext cx="8326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E4B5-B0C7-4384-9203-34B3A513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2"/>
          <p:cNvSpPr/>
          <p:nvPr/>
        </p:nvSpPr>
        <p:spPr>
          <a:xfrm>
            <a:off x="67816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FB3E-FF9B-4156-B801-C38C602A4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SDA_logo"/>
          <p:cNvPicPr/>
          <p:nvPr/>
        </p:nvPicPr>
        <p:blipFill>
          <a:blip r:embed="rId1"/>
          <a:stretch/>
        </p:blipFill>
        <p:spPr>
          <a:xfrm>
            <a:off x="4408560" y="2638440"/>
            <a:ext cx="1106280" cy="91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US_Department_Logo"/>
          <p:cNvPicPr/>
          <p:nvPr/>
        </p:nvPicPr>
        <p:blipFill>
          <a:blip r:embed="rId2"/>
          <a:stretch/>
        </p:blipFill>
        <p:spPr>
          <a:xfrm>
            <a:off x="2820960" y="2674800"/>
            <a:ext cx="88272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DSeal"/>
          <p:cNvPicPr/>
          <p:nvPr/>
        </p:nvPicPr>
        <p:blipFill>
          <a:blip r:embed="rId3"/>
          <a:stretch/>
        </p:blipFill>
        <p:spPr>
          <a:xfrm>
            <a:off x="7410600" y="282888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eacecorps"/>
          <p:cNvPicPr/>
          <p:nvPr/>
        </p:nvPicPr>
        <p:blipFill>
          <a:blip r:embed="rId4"/>
          <a:stretch/>
        </p:blipFill>
        <p:spPr>
          <a:xfrm>
            <a:off x="6035760" y="2782800"/>
            <a:ext cx="768240" cy="76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USAID: From The American People"/>
          <p:cNvPicPr/>
          <p:nvPr/>
        </p:nvPicPr>
        <p:blipFill>
          <a:blip r:embed="rId5"/>
          <a:srcRect l="14039" t="23094" r="14039" b="23094"/>
          <a:stretch/>
        </p:blipFill>
        <p:spPr>
          <a:xfrm>
            <a:off x="863640" y="2997360"/>
            <a:ext cx="1328760" cy="51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5240" y="1552680"/>
            <a:ext cx="7899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in the Ethiopia Feed the Future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824760" y="3968640"/>
            <a:ext cx="612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 and Implemen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of Ethiopia ATA, MOA, M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nd International Research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contractors/ consulting fi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(Public private Partners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-195120" y="-146160"/>
            <a:ext cx="9534240" cy="1524240"/>
            <a:chOff x="-195120" y="-146160"/>
            <a:chExt cx="9534240" cy="1524240"/>
          </a:xfrm>
        </p:grpSpPr>
        <p:pic>
          <p:nvPicPr>
            <p:cNvPr id="64" name="Rectangle 2" descr=""/>
            <p:cNvPicPr/>
            <p:nvPr/>
          </p:nvPicPr>
          <p:blipFill>
            <a:blip r:embed="rId1"/>
            <a:stretch/>
          </p:blipFill>
          <p:spPr>
            <a:xfrm>
              <a:off x="-195120" y="-146160"/>
              <a:ext cx="953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&amp;T DO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 3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3217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4952880" y="957240"/>
            <a:ext cx="39880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7"/>
          <p:cNvGrpSpPr/>
          <p:nvPr/>
        </p:nvGrpSpPr>
        <p:grpSpPr>
          <a:xfrm>
            <a:off x="4511520" y="3951360"/>
            <a:ext cx="4451400" cy="2835360"/>
            <a:chOff x="4511520" y="3951360"/>
            <a:chExt cx="4451400" cy="2835360"/>
          </a:xfrm>
        </p:grpSpPr>
        <p:pic>
          <p:nvPicPr>
            <p:cNvPr id="71" name="Picture 2" descr="Herding cattle"/>
            <p:cNvPicPr/>
            <p:nvPr/>
          </p:nvPicPr>
          <p:blipFill>
            <a:blip r:embed="rId2"/>
            <a:stretch/>
          </p:blipFill>
          <p:spPr>
            <a:xfrm>
              <a:off x="4511520" y="3951360"/>
              <a:ext cx="4451400" cy="2835360"/>
            </a:xfrm>
            <a:prstGeom prst="rect">
              <a:avLst/>
            </a:prstGeom>
            <a:ln w="50760">
              <a:solidFill>
                <a:srgbClr val="e68e8e"/>
              </a:solidFill>
              <a:miter/>
            </a:ln>
          </p:spPr>
        </p:pic>
        <p:sp>
          <p:nvSpPr>
            <p:cNvPr id="72" name="Rectangle 3"/>
            <p:cNvSpPr/>
            <p:nvPr/>
          </p:nvSpPr>
          <p:spPr>
            <a:xfrm>
              <a:off x="5430960" y="3976560"/>
              <a:ext cx="285264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astoral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  Ethiopia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4648320" y="6059520"/>
              <a:ext cx="32511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large grazing areas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irregular climat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5" descr="DSCN0031"/>
          <p:cNvPicPr/>
          <p:nvPr/>
        </p:nvPicPr>
        <p:blipFill>
          <a:blip r:embed="rId3"/>
          <a:stretch/>
        </p:blipFill>
        <p:spPr>
          <a:xfrm>
            <a:off x="328680" y="3753000"/>
            <a:ext cx="3995640" cy="301140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75" name="Rectangle 6"/>
          <p:cNvSpPr/>
          <p:nvPr/>
        </p:nvSpPr>
        <p:spPr>
          <a:xfrm>
            <a:off x="328680" y="3722760"/>
            <a:ext cx="3911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ungry Ethiopia”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4000" y="3903840"/>
            <a:ext cx="35748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d so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eas_harvesting_at_Chancho_Flowers__usaid_atep_lead_client (01-23-2008)  "/>
          <p:cNvPicPr/>
          <p:nvPr/>
        </p:nvPicPr>
        <p:blipFill>
          <a:blip r:embed="rId4"/>
          <a:stretch/>
        </p:blipFill>
        <p:spPr>
          <a:xfrm>
            <a:off x="187200" y="1022400"/>
            <a:ext cx="4362480" cy="2619360"/>
          </a:xfrm>
          <a:prstGeom prst="rect">
            <a:avLst/>
          </a:prstGeom>
          <a:ln w="50760">
            <a:solidFill>
              <a:srgbClr val="5ead49"/>
            </a:solidFill>
            <a:miter/>
          </a:ln>
        </p:spPr>
      </p:pic>
      <p:sp>
        <p:nvSpPr>
          <p:cNvPr id="78" name="Rectangle 9"/>
          <p:cNvSpPr/>
          <p:nvPr/>
        </p:nvSpPr>
        <p:spPr>
          <a:xfrm>
            <a:off x="0" y="944640"/>
            <a:ext cx="4648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ductive Ethiopia”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5840" y="1509840"/>
            <a:ext cx="4219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arger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edictab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erti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800600" y="133200"/>
            <a:ext cx="434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                             “Three Ethiopi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 flipV="1">
            <a:off x="4381560" y="1303200"/>
            <a:ext cx="1131840" cy="857520"/>
          </a:xfrm>
          <a:prstGeom prst="line">
            <a:avLst/>
          </a:prstGeom>
          <a:ln w="127080">
            <a:solidFill>
              <a:srgbClr val="5ead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788240" y="3166920"/>
            <a:ext cx="33480" cy="1008360"/>
          </a:xfrm>
          <a:prstGeom prst="line">
            <a:avLst/>
          </a:prstGeom>
          <a:ln w="127080">
            <a:solidFill>
              <a:srgbClr val="e789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>
            <a:off x="4121280" y="3446640"/>
            <a:ext cx="1752480" cy="500040"/>
          </a:xfrm>
          <a:prstGeom prst="line">
            <a:avLst/>
          </a:prstGeom>
          <a:ln w="127080">
            <a:solidFill>
              <a:srgbClr val="fde5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809520" y="3238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142800" y="63817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-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7778520" y="6399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1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6781680" y="6132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D24F-8152-42FB-8FD0-8859993B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1486080" y="1638360"/>
            <a:ext cx="3230280" cy="2897280"/>
          </a:xfrm>
          <a:prstGeom prst="ellips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166356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424332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952720" y="3684600"/>
            <a:ext cx="2933640" cy="27129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val 7"/>
          <p:cNvGrpSpPr/>
          <p:nvPr/>
        </p:nvGrpSpPr>
        <p:grpSpPr>
          <a:xfrm>
            <a:off x="4237200" y="1657440"/>
            <a:ext cx="2846160" cy="2738520"/>
            <a:chOff x="4237200" y="1657440"/>
            <a:chExt cx="2846160" cy="2738520"/>
          </a:xfrm>
        </p:grpSpPr>
        <p:pic>
          <p:nvPicPr>
            <p:cNvPr id="93" name="Oval 7" descr=""/>
            <p:cNvPicPr/>
            <p:nvPr/>
          </p:nvPicPr>
          <p:blipFill>
            <a:blip r:embed="rId1"/>
            <a:stretch/>
          </p:blipFill>
          <p:spPr>
            <a:xfrm>
              <a:off x="4237200" y="1657440"/>
              <a:ext cx="2846160" cy="27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60920" y="206532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8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9"/>
          <p:cNvGrpSpPr/>
          <p:nvPr/>
        </p:nvGrpSpPr>
        <p:grpSpPr>
          <a:xfrm>
            <a:off x="3005280" y="3700440"/>
            <a:ext cx="2846160" cy="2736720"/>
            <a:chOff x="3005280" y="3700440"/>
            <a:chExt cx="2846160" cy="2736720"/>
          </a:xfrm>
        </p:grpSpPr>
        <p:pic>
          <p:nvPicPr>
            <p:cNvPr id="97" name="Oval 9" descr=""/>
            <p:cNvPicPr/>
            <p:nvPr/>
          </p:nvPicPr>
          <p:blipFill>
            <a:blip r:embed="rId3"/>
            <a:stretch/>
          </p:blipFill>
          <p:spPr>
            <a:xfrm>
              <a:off x="3005280" y="3700440"/>
              <a:ext cx="28461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29000" y="410688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10"/>
          <p:cNvSpPr/>
          <p:nvPr/>
        </p:nvSpPr>
        <p:spPr>
          <a:xfrm>
            <a:off x="4460760" y="3713040"/>
            <a:ext cx="1160640" cy="6573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760" h="423">
                <a:moveTo>
                  <a:pt x="0" y="0"/>
                </a:moveTo>
                <a:lnTo>
                  <a:pt x="52" y="0"/>
                </a:lnTo>
                <a:lnTo>
                  <a:pt x="118" y="9"/>
                </a:lnTo>
                <a:lnTo>
                  <a:pt x="186" y="24"/>
                </a:lnTo>
                <a:lnTo>
                  <a:pt x="253" y="42"/>
                </a:lnTo>
                <a:lnTo>
                  <a:pt x="315" y="63"/>
                </a:lnTo>
                <a:lnTo>
                  <a:pt x="388" y="93"/>
                </a:lnTo>
                <a:lnTo>
                  <a:pt x="448" y="126"/>
                </a:lnTo>
                <a:lnTo>
                  <a:pt x="523" y="174"/>
                </a:lnTo>
                <a:lnTo>
                  <a:pt x="577" y="219"/>
                </a:lnTo>
                <a:lnTo>
                  <a:pt x="640" y="279"/>
                </a:lnTo>
                <a:lnTo>
                  <a:pt x="696" y="339"/>
                </a:lnTo>
                <a:lnTo>
                  <a:pt x="760" y="423"/>
                </a:lnTo>
                <a:lnTo>
                  <a:pt x="694" y="420"/>
                </a:lnTo>
                <a:lnTo>
                  <a:pt x="610" y="410"/>
                </a:lnTo>
                <a:lnTo>
                  <a:pt x="532" y="393"/>
                </a:lnTo>
                <a:lnTo>
                  <a:pt x="451" y="366"/>
                </a:lnTo>
                <a:lnTo>
                  <a:pt x="397" y="342"/>
                </a:lnTo>
                <a:lnTo>
                  <a:pt x="330" y="311"/>
                </a:lnTo>
                <a:lnTo>
                  <a:pt x="271" y="275"/>
                </a:lnTo>
                <a:lnTo>
                  <a:pt x="214" y="237"/>
                </a:lnTo>
                <a:lnTo>
                  <a:pt x="163" y="192"/>
                </a:lnTo>
                <a:lnTo>
                  <a:pt x="112" y="147"/>
                </a:lnTo>
                <a:lnTo>
                  <a:pt x="79" y="111"/>
                </a:lnTo>
                <a:lnTo>
                  <a:pt x="43" y="66"/>
                </a:lnTo>
                <a:lnTo>
                  <a:pt x="21" y="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40000" y="3713040"/>
            <a:ext cx="1144800" cy="65088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 rot="18013800">
            <a:off x="3890160" y="2688120"/>
            <a:ext cx="1073160" cy="6397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922400" y="2931840"/>
            <a:ext cx="2390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4537080" y="2417040"/>
            <a:ext cx="23511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livelihoods for chronical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271680" y="4658760"/>
            <a:ext cx="23101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development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57200" y="874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ID/Ethiopia strategy has three interlink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cus 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drive food security and nutriti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7172280" y="2401920"/>
            <a:ext cx="147024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ing the Vuln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5915160" y="4819680"/>
            <a:ext cx="146988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and Capacity Ena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55520" y="2017800"/>
            <a:ext cx="1581120" cy="1390680"/>
            <a:chOff x="155520" y="2017800"/>
            <a:chExt cx="1581120" cy="1390680"/>
          </a:xfrm>
        </p:grpSpPr>
        <p:sp>
          <p:nvSpPr>
            <p:cNvPr id="114" name="Rectangle 10"/>
            <p:cNvSpPr/>
            <p:nvPr/>
          </p:nvSpPr>
          <p:spPr>
            <a:xfrm>
              <a:off x="184320" y="2275920"/>
              <a:ext cx="1470240" cy="111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 flipH="1">
              <a:off x="155520" y="2017800"/>
              <a:ext cx="1581120" cy="4143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ON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073520" y="3133800"/>
              <a:ext cx="582480" cy="274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2"/>
          <p:cNvSpPr/>
          <p:nvPr/>
        </p:nvSpPr>
        <p:spPr>
          <a:xfrm>
            <a:off x="8058240" y="3249720"/>
            <a:ext cx="588960" cy="27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821640" y="5670720"/>
            <a:ext cx="588960" cy="274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89000" y="3424320"/>
            <a:ext cx="166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4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roductive Ethiopia to marke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 flipH="1">
            <a:off x="7047720" y="2048040"/>
            <a:ext cx="1884600" cy="41400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 flipH="1">
            <a:off x="5705640" y="4456080"/>
            <a:ext cx="1884240" cy="41436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SCN0031"/>
          <p:cNvPicPr/>
          <p:nvPr/>
        </p:nvPicPr>
        <p:blipFill>
          <a:blip r:embed="rId5"/>
          <a:stretch/>
        </p:blipFill>
        <p:spPr>
          <a:xfrm>
            <a:off x="1765440" y="6058080"/>
            <a:ext cx="4884480" cy="73152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123" name="Rectangle 21"/>
          <p:cNvSpPr/>
          <p:nvPr/>
        </p:nvSpPr>
        <p:spPr>
          <a:xfrm>
            <a:off x="1549440" y="6113880"/>
            <a:ext cx="53560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Cut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, Climate Change Gover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116840" y="3576600"/>
            <a:ext cx="16603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6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opulations into “Productive Ethiop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5126-80B0-44C8-A058-0290BA895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34880" y="1363680"/>
            <a:ext cx="7997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icultural Growth Program (AG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gricultural productivity and market access for key crop and livestock products in the productive highland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3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Productive Ethio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1-15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32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World Bank; USG; Canadian International Development Agency [CIDA]; Spain; Netherlands; Finland; UNDP; Global Agriculture and Food Security Program [GAFS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) Sustainable Land Management Program (SLM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 to improve the livelihood of land users while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toring ecosystem functions and ensuring sustainable land management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2-16), $15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ld Bank; USG; Finland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) Productive Safety Net Program (PSN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GoE’s overall umbrella Food Security Program (FSP).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in Hungry Ethiopia plus parts of Pastoral Ethiopia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0-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, $1.8 b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G, World Bank, CIDA, Swiss International Development Agency, Irish Agency for International Development [Irish AID], United Kingdom Department for International Development [DfID], Denmark, EU and World Food Program [WFP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) Household Asset Building Program (HAB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o graduate 80 percent of PSNP beneficiaries by 2014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ngry Ethiopia plus parts of Pastoral Ethiopia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10-14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648 mill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World Bank, Irish AID, DfID, CIDA and US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tform Programs in Other Key Areas: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 Nutrition Strategy (NNS) and Climate Resilient Green Economy Strategy (CR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-39600" y="1003320"/>
            <a:ext cx="93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ADP POLICY AND INVESTMENT FRAMEWORK PRIORITY INVESTMENTS – GOE PLATFORM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781680" y="591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7209-0656-4BFC-8697-C7EC7326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54040" y="2384280"/>
            <a:ext cx="3863520" cy="869760"/>
            <a:chOff x="554040" y="2384280"/>
            <a:chExt cx="3863520" cy="869760"/>
          </a:xfrm>
        </p:grpSpPr>
        <p:sp>
          <p:nvSpPr>
            <p:cNvPr id="130" name="Freeform 3"/>
            <p:cNvSpPr/>
            <p:nvPr/>
          </p:nvSpPr>
          <p:spPr>
            <a:xfrm>
              <a:off x="3533040" y="2385000"/>
              <a:ext cx="882360" cy="726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2088000" y="2457720"/>
              <a:ext cx="1574640" cy="796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796320"/>
                <a:gd name="textAreaBottom" fmla="*/ 796680 h 79632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554040" y="2447280"/>
              <a:ext cx="3147840" cy="803880"/>
            </a:xfrm>
            <a:custGeom>
              <a:avLst/>
              <a:gdLst>
                <a:gd name="textAreaLeft" fmla="*/ 0 w 3147840"/>
                <a:gd name="textAreaRight" fmla="*/ 3148200 w 314784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2297520" y="2384280"/>
              <a:ext cx="2120040" cy="76680"/>
            </a:xfrm>
            <a:custGeom>
              <a:avLst/>
              <a:gdLst>
                <a:gd name="textAreaLeft" fmla="*/ 0 w 2120040"/>
                <a:gd name="textAreaRight" fmla="*/ 2120400 w 2120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1523160" y="2510280"/>
              <a:ext cx="1365480" cy="569520"/>
            </a:xfrm>
            <a:custGeom>
              <a:avLst/>
              <a:gdLst>
                <a:gd name="textAreaLeft" fmla="*/ 0 w 1365480"/>
                <a:gd name="textAreaRight" fmla="*/ 1365480 w 136548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1304280" y="2841480"/>
              <a:ext cx="682560" cy="392400"/>
              <a:chOff x="1304280" y="2841480"/>
              <a:chExt cx="682560" cy="39240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1304280" y="2859840"/>
                <a:ext cx="682560" cy="37404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 rot="20286600">
                <a:off x="1362600" y="2910960"/>
                <a:ext cx="389520" cy="7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WordArt 11"/>
              <p:cNvSpPr txBox="1"/>
              <p:nvPr/>
            </p:nvSpPr>
            <p:spPr>
              <a:xfrm>
                <a:off x="1436400" y="2994480"/>
                <a:ext cx="417960" cy="10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SH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39" name="Rectangle 12"/>
          <p:cNvSpPr/>
          <p:nvPr/>
        </p:nvSpPr>
        <p:spPr>
          <a:xfrm>
            <a:off x="184320" y="1824120"/>
            <a:ext cx="8781840" cy="449424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75240" y="1809720"/>
            <a:ext cx="0" cy="44928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4762080" y="2368440"/>
            <a:ext cx="3866760" cy="868320"/>
            <a:chOff x="4762080" y="2368440"/>
            <a:chExt cx="3866760" cy="868320"/>
          </a:xfrm>
        </p:grpSpPr>
        <p:sp>
          <p:nvSpPr>
            <p:cNvPr id="142" name="Freeform 15"/>
            <p:cNvSpPr/>
            <p:nvPr/>
          </p:nvSpPr>
          <p:spPr>
            <a:xfrm flipH="1">
              <a:off x="4764240" y="2369160"/>
              <a:ext cx="882720" cy="72612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0 h 726120"/>
                <a:gd name="textAreaBottom" fmla="*/ 726120 h 72612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 flipH="1">
              <a:off x="5517360" y="2441880"/>
              <a:ext cx="1576080" cy="794880"/>
            </a:xfrm>
            <a:custGeom>
              <a:avLst/>
              <a:gdLst>
                <a:gd name="textAreaLeft" fmla="*/ 360 w 1576080"/>
                <a:gd name="textAreaRight" fmla="*/ 1576800 w 157608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 flipH="1">
              <a:off x="5477400" y="2431440"/>
              <a:ext cx="3151080" cy="801000"/>
            </a:xfrm>
            <a:custGeom>
              <a:avLst/>
              <a:gdLst>
                <a:gd name="textAreaLeft" fmla="*/ -360 w 3151080"/>
                <a:gd name="textAreaRight" fmla="*/ 3151080 w 315108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 flipH="1">
              <a:off x="4761720" y="2368440"/>
              <a:ext cx="2122920" cy="76320"/>
            </a:xfrm>
            <a:custGeom>
              <a:avLst/>
              <a:gdLst>
                <a:gd name="textAreaLeft" fmla="*/ -360 w 2122920"/>
                <a:gd name="textAreaRight" fmla="*/ 2122920 w 212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 flipH="1" rot="10800000">
              <a:off x="6354720" y="2606400"/>
              <a:ext cx="1364040" cy="568800"/>
            </a:xfrm>
            <a:custGeom>
              <a:avLst/>
              <a:gdLst>
                <a:gd name="textAreaLeft" fmla="*/ -360 w 1364040"/>
                <a:gd name="textAreaRight" fmla="*/ 1364040 w 136404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20"/>
            <p:cNvGrpSpPr/>
            <p:nvPr/>
          </p:nvGrpSpPr>
          <p:grpSpPr>
            <a:xfrm>
              <a:off x="6219720" y="2409120"/>
              <a:ext cx="654120" cy="375840"/>
              <a:chOff x="6219720" y="2409120"/>
              <a:chExt cx="654120" cy="375840"/>
            </a:xfrm>
          </p:grpSpPr>
          <p:sp>
            <p:nvSpPr>
              <p:cNvPr id="148" name="Oval 21"/>
              <p:cNvSpPr/>
              <p:nvPr/>
            </p:nvSpPr>
            <p:spPr>
              <a:xfrm flipH="1">
                <a:off x="6219360" y="2427480"/>
                <a:ext cx="654120" cy="35748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"/>
              <p:cNvSpPr/>
              <p:nvPr/>
            </p:nvSpPr>
            <p:spPr>
              <a:xfrm flipH="1" rot="1313400">
                <a:off x="6443640" y="2476080"/>
                <a:ext cx="37332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WordArt 23"/>
              <p:cNvSpPr txBox="1"/>
              <p:nvPr/>
            </p:nvSpPr>
            <p:spPr>
              <a:xfrm>
                <a:off x="6346800" y="2556360"/>
                <a:ext cx="400680" cy="9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LL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51" name="Rectangle 24"/>
          <p:cNvSpPr/>
          <p:nvPr/>
        </p:nvSpPr>
        <p:spPr>
          <a:xfrm>
            <a:off x="260280" y="3398760"/>
            <a:ext cx="41497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assets for chronically vulnerable HHs to graduate into value chain efforts.  Activ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ccess to financi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sset transfers (on cr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ivelihood and NR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4667400" y="3427560"/>
            <a:ext cx="4149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LL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bring chronically vulnerable HHs with built assets into value chains so that they can build sustainable livelihoods.  Activ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acts with private sector players to source from/employ vulnerable 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941400" y="6327720"/>
            <a:ext cx="27907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grad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5006880" y="6327720"/>
            <a:ext cx="32482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linked t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1558800" y="1066680"/>
            <a:ext cx="607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and Pull”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5"/>
          <p:cNvGrpSpPr/>
          <p:nvPr/>
        </p:nvGrpSpPr>
        <p:grpSpPr>
          <a:xfrm>
            <a:off x="184320" y="1819440"/>
            <a:ext cx="8781840" cy="537840"/>
            <a:chOff x="184320" y="1819440"/>
            <a:chExt cx="8781840" cy="537840"/>
          </a:xfrm>
        </p:grpSpPr>
        <p:sp>
          <p:nvSpPr>
            <p:cNvPr id="157" name="Rectangle 71"/>
            <p:cNvSpPr/>
            <p:nvPr/>
          </p:nvSpPr>
          <p:spPr>
            <a:xfrm>
              <a:off x="184320" y="1819440"/>
              <a:ext cx="8781840" cy="537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3738600" y="1879200"/>
              <a:ext cx="1801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accumulation/ Foo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3"/>
            <p:cNvSpPr/>
            <p:nvPr/>
          </p:nvSpPr>
          <p:spPr>
            <a:xfrm>
              <a:off x="6732720" y="1879200"/>
              <a:ext cx="21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ble livelihood through market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4"/>
            <p:cNvSpPr/>
            <p:nvPr/>
          </p:nvSpPr>
          <p:spPr>
            <a:xfrm>
              <a:off x="312840" y="1863360"/>
              <a:ext cx="18302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depletion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 in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GRAD-PRIME-AGP Overlap"/>
          <p:cNvPicPr/>
          <p:nvPr/>
        </p:nvPicPr>
        <p:blipFill>
          <a:blip r:embed="rId1"/>
          <a:stretch/>
        </p:blipFill>
        <p:spPr>
          <a:xfrm>
            <a:off x="533520" y="852480"/>
            <a:ext cx="7924680" cy="58881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62" name="Rectangle 1"/>
          <p:cNvSpPr/>
          <p:nvPr/>
        </p:nvSpPr>
        <p:spPr>
          <a:xfrm>
            <a:off x="5638680" y="928800"/>
            <a:ext cx="2514600" cy="41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09:43Z</dcterms:created>
  <dc:creator>USAID</dc:creator>
  <dc:description/>
  <dc:language>en-US</dc:language>
  <cp:lastModifiedBy>PBallantyne</cp:lastModifiedBy>
  <cp:lastPrinted>2012-01-30T09:10:54Z</cp:lastPrinted>
  <dcterms:modified xsi:type="dcterms:W3CDTF">2012-01-30T13:01:13Z</dcterms:modified>
  <cp:revision>6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Title">
    <vt:lpwstr>Slide 1</vt:lpwstr>
  </property>
  <property fmtid="{D5CDD505-2E9C-101B-9397-08002B2CF9AE}" pid="6" name="docid">
    <vt:lpwstr/>
  </property>
</Properties>
</file>